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B96C-5C89-474F-89BA-352843DE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75D7-39FC-48DF-A97E-3FC1DB67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3374-B5A6-48A7-89CE-D188B7E0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BDE-785A-43A6-8DA5-5833A0E2F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150-3F5D-4F2B-84DB-2B008D4E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48AB-6DA4-421E-A4B2-3A40EA7A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832-D2CA-44E2-ADD6-E2B91274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21E4-F404-41A8-BB3B-54357A25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CCC-0D90-454A-BAFD-10A11F4E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6DAB-2460-4CF3-AC5A-D1EE39AB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943E-619C-4F52-BCBD-10442C67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24B-C274-4880-ADB5-8E707208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F50C-A0E6-4676-B6F6-46DB1ADBE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76640"/>
            <a:ext cx="9144000" cy="23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234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11280" y="2781360"/>
            <a:ext cx="756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RMANY!</a:t>
            </a:r>
            <a:endParaRPr b="0" i="1" lang="en-US" sz="4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is a very interesting country and I am glad I chose it! I wasn’t at the EXPO but I still enjoyed making the poster and the gingerbread house. Penny and Jye were also in my group, im pretty sure they enjoyed it t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47628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352908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08640"/>
            <a:ext cx="9144000" cy="2349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76640"/>
            <a:ext cx="9144000" cy="22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00000" y="4869000"/>
            <a:ext cx="74898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RMANY!</a:t>
            </a:r>
            <a:endParaRPr b="0" i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493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hing I enjoyed the most is putting everything together like pasting everything onto he poster and writing headings.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2708280"/>
            <a:ext cx="201600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02:21:57Z</dcterms:created>
  <dc:creator>Admin</dc:creator>
  <dc:description/>
  <dc:language>en-US</dc:language>
  <cp:lastModifiedBy>Admin</cp:lastModifiedBy>
  <dcterms:modified xsi:type="dcterms:W3CDTF">2009-06-18T02:53:41Z</dcterms:modified>
  <cp:revision>2</cp:revision>
  <dc:subject/>
  <dc:title>Slide 1</dc:title>
</cp:coreProperties>
</file>